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5BB-E1B2-49F3-AD5B-0E2F329E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D1C-E971-4A6C-A74C-F0A5C6D4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3BF-F63B-4168-95B3-8FFAA906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3E2-CE7F-4101-B56D-181CF777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98C9-E09C-41E1-A7AB-63E98765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274-A1D5-47F4-AED0-5F17B7F8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D566-1333-432F-8C66-F4BCEA6E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BD98-10C4-427B-A077-3DDAC90A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F88D-222D-48A4-BF04-5ABEEDD1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F09A-93B7-42FA-80FF-D9CB6D3B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8DC7-056B-4F38-BCF3-395021C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C36-EE74-43BF-9FD0-8B8E8606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95A1-1FC7-4E80-80B6-C4A9E160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5FFA-B5AB-4617-B543-6B23952C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2DE7-BBB4-42F6-8419-B6CADD81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0B03-35D8-4885-BF07-DDF2EF65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4898-C5FA-4DDC-9EB8-AA4CAADB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7FB-2172-40D6-BAF9-BCCA87E2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4E6-2435-47D3-9842-F13BA5A3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296-81D3-4267-B488-E3C9DECB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D8F-6828-42CC-A895-3C5E9E0C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1FF-3FFA-43F9-A6DB-7046E7F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277-A1D6-4985-A3DE-CFE8B99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E19-39AD-4EFA-9F48-9064D74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FB73-31F8-4678-BCDF-73BF3DEABC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1428-3290-4CD7-9778-DA3F753ACD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lime_Time_Live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nuggle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nry and Mudge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d the Starry N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ocabulary and Amazing 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ond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dli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imals and plants that live wild outdoo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4" descr="MCj04247060000[1]"/>
          <p:cNvPicPr/>
          <p:nvPr/>
        </p:nvPicPr>
        <p:blipFill>
          <a:blip r:embed="rId1"/>
          <a:stretch/>
        </p:blipFill>
        <p:spPr>
          <a:xfrm>
            <a:off x="838080" y="2971800"/>
            <a:ext cx="1863720" cy="151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MCj04260440000[1]"/>
          <p:cNvPicPr/>
          <p:nvPr/>
        </p:nvPicPr>
        <p:blipFill>
          <a:blip r:embed="rId2"/>
          <a:stretch/>
        </p:blipFill>
        <p:spPr>
          <a:xfrm>
            <a:off x="3637080" y="2881440"/>
            <a:ext cx="1869840" cy="109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Cj04283730000[1]"/>
          <p:cNvPicPr/>
          <p:nvPr/>
        </p:nvPicPr>
        <p:blipFill>
          <a:blip r:embed="rId3"/>
          <a:stretch/>
        </p:blipFill>
        <p:spPr>
          <a:xfrm>
            <a:off x="6934320" y="2895480"/>
            <a:ext cx="1692000" cy="182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MCj04241300000[1]"/>
          <p:cNvPicPr/>
          <p:nvPr/>
        </p:nvPicPr>
        <p:blipFill>
          <a:blip r:embed="rId4"/>
          <a:stretch/>
        </p:blipFill>
        <p:spPr>
          <a:xfrm>
            <a:off x="1828800" y="4724280"/>
            <a:ext cx="2031840" cy="13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MCj04247240000[1]"/>
          <p:cNvPicPr/>
          <p:nvPr/>
        </p:nvPicPr>
        <p:blipFill>
          <a:blip r:embed="rId5"/>
          <a:stretch/>
        </p:blipFill>
        <p:spPr>
          <a:xfrm>
            <a:off x="5486400" y="4419720"/>
            <a:ext cx="1832040" cy="190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7"/>
          <a:stretch/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539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898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67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neat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low 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heart is underneath the smiley fa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809880" y="2209680"/>
            <a:ext cx="1676520" cy="1524240"/>
          </a:xfrm>
          <a:prstGeom prst="smileyFace">
            <a:avLst>
              <a:gd name="adj" fmla="val 9282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809880" y="3886200"/>
            <a:ext cx="1657440" cy="1447920"/>
          </a:xfrm>
          <a:prstGeom prst="pie">
            <a:avLst/>
          </a:prstGeom>
          <a:solidFill>
            <a:srgbClr val="ff33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62120" y="4495680"/>
            <a:ext cx="2819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dentif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 what something i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MCPE01460_0000[1]"/>
          <p:cNvPicPr/>
          <p:nvPr/>
        </p:nvPicPr>
        <p:blipFill>
          <a:blip r:embed="rId1"/>
          <a:stretch/>
        </p:blipFill>
        <p:spPr>
          <a:xfrm>
            <a:off x="2819520" y="3048120"/>
            <a:ext cx="2790720" cy="34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t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son who tries to solve a mystery or figure out a proble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MCj02899610000[1]"/>
          <p:cNvPicPr/>
          <p:nvPr/>
        </p:nvPicPr>
        <p:blipFill>
          <a:blip r:embed="rId1"/>
          <a:stretch/>
        </p:blipFill>
        <p:spPr>
          <a:xfrm>
            <a:off x="5334120" y="3048120"/>
            <a:ext cx="30891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scina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hing that is very interest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 detective finds a clue, he may say that the clue is ver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ascina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MCPE07264_0000[1]"/>
          <p:cNvPicPr/>
          <p:nvPr/>
        </p:nvPicPr>
        <p:blipFill>
          <a:blip r:embed="rId1"/>
          <a:stretch/>
        </p:blipFill>
        <p:spPr>
          <a:xfrm>
            <a:off x="5486400" y="2590920"/>
            <a:ext cx="3200400" cy="257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hing that is slippery and gooey when you touch 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8" descr="200px-Slime_Time_L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20040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Wo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drool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lantern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shiver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snuggled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roo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et saliva run from the mouth like a baby sometimes do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gen_mout.gif (4416 bytes)"/>
          <p:cNvPicPr/>
          <p:nvPr/>
        </p:nvPicPr>
        <p:blipFill>
          <a:blip r:embed="rId1"/>
          <a:stretch/>
        </p:blipFill>
        <p:spPr>
          <a:xfrm>
            <a:off x="3809880" y="3200400"/>
            <a:ext cx="3276720" cy="3208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13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nter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able lamps with coverings around them to protect them from wind and ra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MCj03825580000[1]"/>
          <p:cNvPicPr/>
          <p:nvPr/>
        </p:nvPicPr>
        <p:blipFill>
          <a:blip r:embed="rId1"/>
          <a:stretch/>
        </p:blipFill>
        <p:spPr>
          <a:xfrm>
            <a:off x="3200400" y="37339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2343080000[1]"/>
          <p:cNvPicPr/>
          <p:nvPr/>
        </p:nvPicPr>
        <p:blipFill>
          <a:blip r:embed="rId2"/>
          <a:stretch/>
        </p:blipFill>
        <p:spPr>
          <a:xfrm>
            <a:off x="1066680" y="3276720"/>
            <a:ext cx="2205000" cy="2279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4104950000[1]"/>
          <p:cNvPicPr/>
          <p:nvPr/>
        </p:nvPicPr>
        <p:blipFill>
          <a:blip r:embed="rId3"/>
          <a:stretch/>
        </p:blipFill>
        <p:spPr>
          <a:xfrm>
            <a:off x="5943600" y="2971800"/>
            <a:ext cx="2357280" cy="244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iver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hake with cold, fear, or excite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MCPE07665_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284004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MacOS" descr=""/>
          <p:cNvPicPr/>
          <p:nvPr/>
        </p:nvPicPr>
        <p:blipFill>
          <a:blip r:embed="rId2"/>
          <a:stretch/>
        </p:blipFill>
        <p:spPr>
          <a:xfrm>
            <a:off x="82296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138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885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25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ugg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ie closely and comfortably together; cudd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Click for Snuggle 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124080"/>
            <a:ext cx="3448080" cy="32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azing Wo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alax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ranquil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ildlif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underneath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identif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detectiv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fascinating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limy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lax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huge group of stars.  Earth and the sun are part of a big galax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MCj00831910000[1]"/>
          <p:cNvPicPr/>
          <p:nvPr/>
        </p:nvPicPr>
        <p:blipFill>
          <a:blip r:embed="rId1"/>
          <a:stretch/>
        </p:blipFill>
        <p:spPr>
          <a:xfrm>
            <a:off x="5029200" y="3124080"/>
            <a:ext cx="3429000" cy="3364200"/>
          </a:xfrm>
          <a:prstGeom prst="rect">
            <a:avLst/>
          </a:prstGeom>
          <a:ln w="0">
            <a:noFill/>
          </a:ln>
        </p:spPr>
      </p:pic>
      <p:pic>
        <p:nvPicPr>
          <p:cNvPr id="122" name="MacOS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545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qu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you feel when you are very calm and peacefu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MCj04246380000[1]"/>
          <p:cNvPicPr/>
          <p:nvPr/>
        </p:nvPicPr>
        <p:blipFill>
          <a:blip r:embed="rId1"/>
          <a:stretch/>
        </p:blipFill>
        <p:spPr>
          <a:xfrm>
            <a:off x="990720" y="3962520"/>
            <a:ext cx="1819080" cy="172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MCj01495340000[1]"/>
          <p:cNvPicPr/>
          <p:nvPr/>
        </p:nvPicPr>
        <p:blipFill>
          <a:blip r:embed="rId2"/>
          <a:stretch/>
        </p:blipFill>
        <p:spPr>
          <a:xfrm>
            <a:off x="4876920" y="3429000"/>
            <a:ext cx="3186000" cy="2147760"/>
          </a:xfrm>
          <a:prstGeom prst="rect">
            <a:avLst/>
          </a:prstGeom>
          <a:ln w="0">
            <a:noFill/>
          </a:ln>
        </p:spPr>
      </p:pic>
      <p:pic>
        <p:nvPicPr>
          <p:cNvPr id="127" name="MacOS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4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4928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3:46:42Z</dcterms:created>
  <dc:creator> </dc:creator>
  <dc:description/>
  <dc:language>en-US</dc:language>
  <cp:lastModifiedBy>Laura McDow</cp:lastModifiedBy>
  <dcterms:modified xsi:type="dcterms:W3CDTF">2010-07-29T16:39:33Z</dcterms:modified>
  <cp:revision>3</cp:revision>
  <dc:subject/>
  <dc:title>Henry and Mudge  and the Starry Night</dc:title>
</cp:coreProperties>
</file>